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38DA-835D-4822-8C94-5D46AA155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215A-8004-4F1E-BFD7-8B90E3B96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F469-7D9A-4028-8A9B-6E6EEFB9C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1544-710F-492B-8F13-B66ACA421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2E27-0ADB-4D95-B794-35B9E5396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9BC2-F078-4125-8246-7B44D3C4F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C9A8-8872-4F7C-890B-4DA19F98AC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47AE1-3CA1-4F71-8D3C-E0B03A43F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C9478-2108-4045-A12F-3289AA1A2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263F-E7A3-4525-9790-8C53E40EBD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866F-B90C-4569-A557-8EEC9B72B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B0C8A-A313-4F5B-8C6C-53D89961E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1470-A2B6-4613-B4DB-4ACB7E033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3863-0A3C-43EE-998D-E068D3414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9C94-1445-4D14-82C4-CE12C336C8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1F645-CF2B-4198-A39C-0F3121E5E1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ED10-44A5-4C41-B1DF-4BE320FA4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9328E-8D00-42C2-AAA8-9254ABE69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D7057-2C65-4B95-A77F-6252EEF7E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4FFF-A9D6-4BD2-8C0B-B04B73A18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7A5E-1F81-4266-A1C9-232CBE978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F7B49-8241-482C-82D2-9E099E660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ACE9-6E87-421A-B409-F775F2CEA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83E15-8130-4520-827D-A119AD673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FE7D-426E-4619-8EF8-3A33C50AC2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1677-4F97-4519-A8D8-E61809D68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8CC73-B473-4484-9F61-D10F22669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DD238-C164-4F90-AE5E-FF2F9966D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3966E-8940-4EFB-B6E5-1FC9EA80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9C4A-C6FB-4594-8AC4-24B1E420D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DA9D6-BA0A-4876-A2DB-24453376D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88654-2B99-424A-BC5A-7A0EFDC1A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7B4AF-3F2E-4145-852D-B5EC7FEA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FD9C1-C628-467B-984F-27111AE91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6642F-D303-45E2-85E0-6E995DAD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BA09-F5D9-4E0B-928D-1258B8B2C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6AA3-656B-4B3F-94BB-45FDCDB2F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F76D3-C1F1-4ECC-A069-F9AB21CD3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FCAE-9320-43BA-9C46-FF690EADE1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5T14:27:14Z</dcterms:modified>
  <cp:revision>11</cp:revision>
  <dc:subject/>
  <dc:title>Hunters and gatherers</dc:title>
</cp:coreProperties>
</file>